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05F-B769-484C-A9AC-F2CDE576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791-E161-4777-A439-142F630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147-AB56-48BC-9ED9-3CD3FF1D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55E-4CCB-4FCE-A0FC-0D943555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B90-8A7E-45A1-9CE4-D5F9DFB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4E6-ACCE-4357-8519-C2FFCE7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DE4-8063-4226-BC53-DCE1265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0FD-E3E1-4D86-A2CE-245B44F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31A-FD1E-43D4-95BF-A11141E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AED-F7BD-4062-A42D-F595AFF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72E-0327-4EA8-ABBF-0E38CA8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AE3-08EF-4F95-AAE2-A850F88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006-D404-45BA-BA7D-BB603AFC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43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1981080"/>
            <a:ext cx="5334120" cy="20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90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Novidades da versão 4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36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br>
              <a:rPr sz="3600"/>
            </a:br>
            <a:r>
              <a:rPr b="1" i="1" lang="pt-BR" sz="36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(principais re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1981080"/>
            <a:ext cx="6172200" cy="28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tegração com a Plataforma La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ontinuidade entre as versões (evolução da pesquisa da institui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como ferramenta de análise da pesquisa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No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2209680"/>
            <a:ext cx="5943600" cy="24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latórios (home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dicadores (exporta para Ex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companhamento das atualizações dos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s (home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209680"/>
            <a:ext cx="5943600" cy="21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(versão 3.0 e versão 4.0). Individual ou coletivo (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umário das informações da instituição (versões 3.0 e 4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447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dicadores: Perfil da Pesqu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5410440" cy="21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Comparativo das ver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áficos (arquivo JP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Planilhas (arquivo Exc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133720"/>
            <a:ext cx="4876920" cy="1861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a instituição……Área de Conhecimento</a:t>
            </a:r>
            <a:br>
              <a:rPr sz="2000"/>
            </a:b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99ff"/>
                </a:solidFill>
                <a:latin typeface="Times New Roman"/>
              </a:rPr>
              <a:t>órgão/unidade………..….área/grande área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Grupos de pesquisa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Pesquisador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Estudant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Linhas de pesqu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companhamento das atualiz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2209680"/>
            <a:ext cx="5943600" cy="370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ista dinâmica dos líderes da versão 3.0 que ainda não atualizaram os grup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iltros para facilitar contato com 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-mail direto a partir do 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91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3:07:31Z</dcterms:created>
  <dc:creator>rcpauli</dc:creator>
  <dc:description/>
  <dc:language>en-US</dc:language>
  <cp:lastModifiedBy>Stela</cp:lastModifiedBy>
  <dcterms:modified xsi:type="dcterms:W3CDTF">2000-03-17T05:54:10Z</dcterms:modified>
  <cp:revision>18</cp:revision>
  <dc:subject/>
  <dc:title>Slide sem título </dc:title>
</cp:coreProperties>
</file>