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BFE6-36E8-4397-A776-315F35F57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9F00-DB4C-48B9-9CFC-2803A7C76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F19F-50C6-44E7-8869-23E7235BA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257D-17B0-49C1-B245-BFD09449E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9B8D-6CDA-48F1-AA75-CB88E79C6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114B-AED7-46CB-8580-7FA89D9F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3B3D-B700-4404-B911-A4C56F48A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3082-CEA6-419F-94E7-59A9FE59D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F603-0DE6-4DA0-8265-163B7CA44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5855-CF7C-4BF6-B108-3B8DDC42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2248-DDD1-4985-AC9D-809C7684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8E39-A334-461B-BD57-90F8E6E8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8E5F6-C266-4C0F-BB37-6BC463C0C9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5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5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5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5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5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5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5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5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5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5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5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5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5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5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5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5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5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fundo" descr=""/>
          <p:cNvPicPr/>
          <p:nvPr/>
        </p:nvPicPr>
        <p:blipFill>
          <a:blip r:embed="rId1"/>
          <a:stretch/>
        </p:blipFill>
        <p:spPr>
          <a:xfrm>
            <a:off x="0" y="0"/>
            <a:ext cx="251604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logo1" descr=""/>
          <p:cNvPicPr/>
          <p:nvPr/>
        </p:nvPicPr>
        <p:blipFill>
          <a:blip r:embed="rId2"/>
          <a:stretch/>
        </p:blipFill>
        <p:spPr>
          <a:xfrm>
            <a:off x="304920" y="6108840"/>
            <a:ext cx="1333440" cy="520560"/>
          </a:xfrm>
          <a:prstGeom prst="rect">
            <a:avLst/>
          </a:prstGeom>
          <a:ln w="0">
            <a:noFill/>
          </a:ln>
        </p:spPr>
      </p:pic>
      <p:pic>
        <p:nvPicPr>
          <p:cNvPr id="43" name="logoStela" descr=""/>
          <p:cNvPicPr/>
          <p:nvPr/>
        </p:nvPicPr>
        <p:blipFill>
          <a:blip r:embed="rId3"/>
          <a:stretch/>
        </p:blipFill>
        <p:spPr>
          <a:xfrm>
            <a:off x="7848720" y="6108840"/>
            <a:ext cx="1041120" cy="520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57200" y="30492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Diretório dos Grupos de Pesquisa no Brasil</a:t>
            </a: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  - 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versão 4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esquisa" descr=""/>
          <p:cNvPicPr/>
          <p:nvPr/>
        </p:nvPicPr>
        <p:blipFill>
          <a:blip r:embed="rId4"/>
          <a:stretch/>
        </p:blipFill>
        <p:spPr>
          <a:xfrm>
            <a:off x="1905120" y="1874880"/>
            <a:ext cx="525780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fundo" descr=""/>
          <p:cNvPicPr/>
          <p:nvPr/>
        </p:nvPicPr>
        <p:blipFill>
          <a:blip r:embed="rId1"/>
          <a:stretch/>
        </p:blipFill>
        <p:spPr>
          <a:xfrm>
            <a:off x="0" y="0"/>
            <a:ext cx="251784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pesquisa" descr=""/>
          <p:cNvPicPr/>
          <p:nvPr/>
        </p:nvPicPr>
        <p:blipFill>
          <a:blip r:embed="rId2"/>
          <a:stretch/>
        </p:blipFill>
        <p:spPr>
          <a:xfrm>
            <a:off x="7302600" y="0"/>
            <a:ext cx="1841400" cy="1746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371600" y="685800"/>
            <a:ext cx="5486400" cy="68580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14600" y="160020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Carga dos Grupos Receb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institui" descr=""/>
          <p:cNvPicPr/>
          <p:nvPr/>
        </p:nvPicPr>
        <p:blipFill>
          <a:blip r:embed="rId4"/>
          <a:stretch/>
        </p:blipFill>
        <p:spPr>
          <a:xfrm>
            <a:off x="533520" y="2057400"/>
            <a:ext cx="1676160" cy="10461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514600" y="2286000"/>
            <a:ext cx="6400800" cy="347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spcAft>
                <a:spcPts val="524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Nenhum grupo recebido é carregado automaticamente para a base do sist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spcAft>
                <a:spcPts val="524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A carga do grupo é uma decisão do dirig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spcAft>
                <a:spcPts val="524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Grupos carregados podem ser excluídos e recuperados nova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76520" y="66996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99"/>
                </a:solidFill>
                <a:latin typeface="AGaramond Bold"/>
              </a:rPr>
              <a:t>Sistema Institui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312408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Utilização Bás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fundo" descr=""/>
          <p:cNvPicPr/>
          <p:nvPr/>
        </p:nvPicPr>
        <p:blipFill>
          <a:blip r:embed="rId1"/>
          <a:stretch/>
        </p:blipFill>
        <p:spPr>
          <a:xfrm>
            <a:off x="0" y="0"/>
            <a:ext cx="251784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pesquisa" descr=""/>
          <p:cNvPicPr/>
          <p:nvPr/>
        </p:nvPicPr>
        <p:blipFill>
          <a:blip r:embed="rId2"/>
          <a:stretch/>
        </p:blipFill>
        <p:spPr>
          <a:xfrm>
            <a:off x="7302600" y="0"/>
            <a:ext cx="1841400" cy="1746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371600" y="685800"/>
            <a:ext cx="5486400" cy="68580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14600" y="160020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Cópia de seguranç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institui" descr=""/>
          <p:cNvPicPr/>
          <p:nvPr/>
        </p:nvPicPr>
        <p:blipFill>
          <a:blip r:embed="rId4"/>
          <a:stretch/>
        </p:blipFill>
        <p:spPr>
          <a:xfrm>
            <a:off x="533520" y="2057400"/>
            <a:ext cx="1676160" cy="10461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514600" y="2286000"/>
            <a:ext cx="6400800" cy="262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spcAft>
                <a:spcPts val="524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Funcionamento como backup usu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spcAft>
                <a:spcPts val="524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Guarda uma “fotografia” do momento da geração da cópi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spcAft>
                <a:spcPts val="524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Restauração da cópia de segurança (substituição da fotografia atu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66996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99"/>
                </a:solidFill>
                <a:latin typeface="AGaramond Bold"/>
              </a:rPr>
              <a:t>Sistema Institui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312408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Utilização Bás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fundo" descr=""/>
          <p:cNvPicPr/>
          <p:nvPr/>
        </p:nvPicPr>
        <p:blipFill>
          <a:blip r:embed="rId1"/>
          <a:stretch/>
        </p:blipFill>
        <p:spPr>
          <a:xfrm>
            <a:off x="0" y="0"/>
            <a:ext cx="251784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pesquisa" descr=""/>
          <p:cNvPicPr/>
          <p:nvPr/>
        </p:nvPicPr>
        <p:blipFill>
          <a:blip r:embed="rId2"/>
          <a:stretch/>
        </p:blipFill>
        <p:spPr>
          <a:xfrm>
            <a:off x="7302600" y="0"/>
            <a:ext cx="1841400" cy="17463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371600" y="685800"/>
            <a:ext cx="5486400" cy="68580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14600" y="160020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Envio dos Grupos ao CNP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institui" descr=""/>
          <p:cNvPicPr/>
          <p:nvPr/>
        </p:nvPicPr>
        <p:blipFill>
          <a:blip r:embed="rId4"/>
          <a:stretch/>
        </p:blipFill>
        <p:spPr>
          <a:xfrm>
            <a:off x="533520" y="2057400"/>
            <a:ext cx="1676160" cy="10461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514600" y="2286000"/>
            <a:ext cx="6400800" cy="390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451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3399"/>
                </a:solidFill>
                <a:latin typeface="Times New Roman"/>
              </a:rPr>
              <a:t>Apenas grupos carregados na base podem ser enviados ao CNPq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451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3399"/>
                </a:solidFill>
                <a:latin typeface="Times New Roman"/>
              </a:rPr>
              <a:t>Grupos carregados na base e não selecionados para envio </a:t>
            </a:r>
            <a:r>
              <a:rPr b="1" lang="pt-BR" sz="2400" spc="-1" strike="noStrike" u="sng">
                <a:solidFill>
                  <a:srgbClr val="003399"/>
                </a:solidFill>
                <a:uFillTx/>
                <a:latin typeface="Times New Roman"/>
              </a:rPr>
              <a:t>serão excluídos da base</a:t>
            </a:r>
            <a:r>
              <a:rPr b="1" lang="pt-BR" sz="2400" spc="-1" strike="noStrike">
                <a:solidFill>
                  <a:srgbClr val="003399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451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3399"/>
                </a:solidFill>
                <a:latin typeface="Times New Roman"/>
              </a:rPr>
              <a:t>Gera relatório (homepage) com a relação de grupos enviados ao CNP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451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3399"/>
                </a:solidFill>
                <a:latin typeface="Times New Roman"/>
              </a:rPr>
              <a:t>Em caso de múltiplos envios, o CNPq considera apenas os grupos no arquivo mais rec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76520" y="66996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99"/>
                </a:solidFill>
                <a:latin typeface="AGaramond Bold"/>
              </a:rPr>
              <a:t>Sistema Institui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312408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Utilização Bás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fundo" descr=""/>
          <p:cNvPicPr/>
          <p:nvPr/>
        </p:nvPicPr>
        <p:blipFill>
          <a:blip r:embed="rId1"/>
          <a:stretch/>
        </p:blipFill>
        <p:spPr>
          <a:xfrm>
            <a:off x="0" y="0"/>
            <a:ext cx="251784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pesquisa" descr=""/>
          <p:cNvPicPr/>
          <p:nvPr/>
        </p:nvPicPr>
        <p:blipFill>
          <a:blip r:embed="rId2"/>
          <a:stretch/>
        </p:blipFill>
        <p:spPr>
          <a:xfrm>
            <a:off x="7302600" y="0"/>
            <a:ext cx="1841400" cy="1746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371600" y="685800"/>
            <a:ext cx="5486400" cy="68580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76520" y="66996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99"/>
                </a:solidFill>
                <a:latin typeface="AGaramond Bold"/>
              </a:rPr>
              <a:t>Sistema Institui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14600" y="16002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Recursos Adiciona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institui" descr=""/>
          <p:cNvPicPr/>
          <p:nvPr/>
        </p:nvPicPr>
        <p:blipFill>
          <a:blip r:embed="rId4"/>
          <a:stretch/>
        </p:blipFill>
        <p:spPr>
          <a:xfrm>
            <a:off x="533520" y="2057400"/>
            <a:ext cx="1676160" cy="10461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743200" y="2209680"/>
            <a:ext cx="5943600" cy="242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00"/>
              </a:spcBef>
              <a:spcAft>
                <a:spcPts val="1049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Acompanhamento das atualizações dos grupos da v. 3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400"/>
              </a:spcBef>
              <a:spcAft>
                <a:spcPts val="1049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Relatórios (homepag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400"/>
              </a:spcBef>
              <a:spcAft>
                <a:spcPts val="1049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Indicadores (exporta para Exc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31240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Dirig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fundo" descr=""/>
          <p:cNvPicPr/>
          <p:nvPr/>
        </p:nvPicPr>
        <p:blipFill>
          <a:blip r:embed="rId1"/>
          <a:stretch/>
        </p:blipFill>
        <p:spPr>
          <a:xfrm>
            <a:off x="0" y="0"/>
            <a:ext cx="251784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pesquisa" descr=""/>
          <p:cNvPicPr/>
          <p:nvPr/>
        </p:nvPicPr>
        <p:blipFill>
          <a:blip r:embed="rId2"/>
          <a:stretch/>
        </p:blipFill>
        <p:spPr>
          <a:xfrm>
            <a:off x="7302600" y="0"/>
            <a:ext cx="1841400" cy="17463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371600" y="685800"/>
            <a:ext cx="5486400" cy="68580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76520" y="66996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99"/>
                </a:solidFill>
                <a:latin typeface="AGaramond Bold"/>
              </a:rPr>
              <a:t>Sistema Institui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14600" y="16002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Acompanhamento das atualizaçõ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institui" descr=""/>
          <p:cNvPicPr/>
          <p:nvPr/>
        </p:nvPicPr>
        <p:blipFill>
          <a:blip r:embed="rId4"/>
          <a:stretch/>
        </p:blipFill>
        <p:spPr>
          <a:xfrm>
            <a:off x="533520" y="2057400"/>
            <a:ext cx="1676160" cy="10461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743200" y="2209680"/>
            <a:ext cx="5943600" cy="253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00"/>
              </a:spcBef>
              <a:spcAft>
                <a:spcPts val="1049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lista dinâmica dos líderes da versão 3.0 que ainda não atualizaram os grupo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400"/>
              </a:spcBef>
              <a:spcAft>
                <a:spcPts val="1049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Filtros para facilitar contato com os líde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312408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Recursos adicion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fundo" descr=""/>
          <p:cNvPicPr/>
          <p:nvPr/>
        </p:nvPicPr>
        <p:blipFill>
          <a:blip r:embed="rId1"/>
          <a:stretch/>
        </p:blipFill>
        <p:spPr>
          <a:xfrm>
            <a:off x="0" y="0"/>
            <a:ext cx="251784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pesquisa" descr=""/>
          <p:cNvPicPr/>
          <p:nvPr/>
        </p:nvPicPr>
        <p:blipFill>
          <a:blip r:embed="rId2"/>
          <a:stretch/>
        </p:blipFill>
        <p:spPr>
          <a:xfrm>
            <a:off x="7302600" y="0"/>
            <a:ext cx="1841400" cy="1746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371600" y="685800"/>
            <a:ext cx="5486400" cy="68580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66996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99"/>
                </a:solidFill>
                <a:latin typeface="AGaramond Bold"/>
              </a:rPr>
              <a:t>Sistema Institui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14600" y="16002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Relatórios (homepage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institui" descr=""/>
          <p:cNvPicPr/>
          <p:nvPr/>
        </p:nvPicPr>
        <p:blipFill>
          <a:blip r:embed="rId4"/>
          <a:stretch/>
        </p:blipFill>
        <p:spPr>
          <a:xfrm>
            <a:off x="533520" y="2057400"/>
            <a:ext cx="1676160" cy="10461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743200" y="2209680"/>
            <a:ext cx="5943600" cy="211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00"/>
              </a:spcBef>
              <a:spcAft>
                <a:spcPts val="1049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Grupos (versão 3.0 e versão 4.0). Individual ou coletivo (si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400"/>
              </a:spcBef>
              <a:spcAft>
                <a:spcPts val="1049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Sumário das informações da instituição (versões 3.0 e 4.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312408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Recursos adicion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fundo" descr=""/>
          <p:cNvPicPr/>
          <p:nvPr/>
        </p:nvPicPr>
        <p:blipFill>
          <a:blip r:embed="rId1"/>
          <a:stretch/>
        </p:blipFill>
        <p:spPr>
          <a:xfrm>
            <a:off x="0" y="0"/>
            <a:ext cx="2517840" cy="6858000"/>
          </a:xfrm>
          <a:prstGeom prst="rect">
            <a:avLst/>
          </a:prstGeom>
          <a:ln w="0">
            <a:noFill/>
          </a:ln>
        </p:spPr>
      </p:pic>
      <p:pic>
        <p:nvPicPr>
          <p:cNvPr id="146" name="pesquisa" descr=""/>
          <p:cNvPicPr/>
          <p:nvPr/>
        </p:nvPicPr>
        <p:blipFill>
          <a:blip r:embed="rId2"/>
          <a:stretch/>
        </p:blipFill>
        <p:spPr>
          <a:xfrm>
            <a:off x="7302600" y="0"/>
            <a:ext cx="1841400" cy="17463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371600" y="685800"/>
            <a:ext cx="5486400" cy="68580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76520" y="66996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99"/>
                </a:solidFill>
                <a:latin typeface="AGaramond Bold"/>
              </a:rPr>
              <a:t>Sistema Institui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14479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Indicadores: Perfil da Pesqui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institui" descr=""/>
          <p:cNvPicPr/>
          <p:nvPr/>
        </p:nvPicPr>
        <p:blipFill>
          <a:blip r:embed="rId4"/>
          <a:stretch/>
        </p:blipFill>
        <p:spPr>
          <a:xfrm>
            <a:off x="533520" y="2057400"/>
            <a:ext cx="1676160" cy="10461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80880" y="312408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Recursos adicion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4191120"/>
            <a:ext cx="5410440" cy="21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"/>
              </a:spcBef>
              <a:spcAft>
                <a:spcPts val="150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3399"/>
                </a:solidFill>
                <a:latin typeface="Times New Roman"/>
              </a:rPr>
              <a:t>Grupos da versão 3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"/>
              </a:spcBef>
              <a:spcAft>
                <a:spcPts val="150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3399"/>
                </a:solidFill>
                <a:latin typeface="Times New Roman"/>
              </a:rPr>
              <a:t>Grupos da versão 4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"/>
              </a:spcBef>
              <a:spcAft>
                <a:spcPts val="150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3399"/>
                </a:solidFill>
                <a:latin typeface="Times New Roman"/>
              </a:rPr>
              <a:t>Comparativo das versõ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"/>
              </a:spcBef>
              <a:spcAft>
                <a:spcPts val="150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3399"/>
                </a:solidFill>
                <a:latin typeface="Times New Roman"/>
              </a:rPr>
              <a:t>Gráficos (arquivo JP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"/>
              </a:spcBef>
              <a:spcAft>
                <a:spcPts val="150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3399"/>
                </a:solidFill>
                <a:latin typeface="Times New Roman"/>
              </a:rPr>
              <a:t>Planilhas (arquivo Exc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124080" y="2133720"/>
            <a:ext cx="4876920" cy="18619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Na instituição……Área de Conhecimento</a:t>
            </a:r>
            <a:br>
              <a:rPr sz="2000"/>
            </a:br>
            <a:r>
              <a:rPr b="1" lang="pt-BR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pt-BR" sz="1600" spc="-1" strike="noStrike">
                <a:solidFill>
                  <a:srgbClr val="0099ff"/>
                </a:solidFill>
                <a:latin typeface="Times New Roman"/>
              </a:rPr>
              <a:t>órgão/unidade………..….área/grande área</a:t>
            </a:r>
            <a:br>
              <a:rPr sz="2000"/>
            </a:br>
            <a:r>
              <a:rPr b="1" lang="pt-BR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cc3300"/>
                </a:solidFill>
                <a:latin typeface="Times New Roman"/>
              </a:rPr>
              <a:t>Grupos</a:t>
            </a:r>
            <a:br>
              <a:rPr sz="2000"/>
            </a:br>
            <a:r>
              <a:rPr b="1" lang="pt-BR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cc3300"/>
                </a:solidFill>
                <a:latin typeface="Times New Roman"/>
              </a:rPr>
              <a:t>Pesquisadores (por titulação)</a:t>
            </a:r>
            <a:br>
              <a:rPr sz="2000"/>
            </a:br>
            <a:r>
              <a:rPr b="1" lang="pt-BR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cc3300"/>
                </a:solidFill>
                <a:latin typeface="Times New Roman"/>
              </a:rPr>
              <a:t>Estudantes (por titulação)</a:t>
            </a:r>
            <a:br>
              <a:rPr sz="2000"/>
            </a:br>
            <a:r>
              <a:rPr b="1" lang="pt-BR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cc3300"/>
                </a:solidFill>
                <a:latin typeface="Times New Roman"/>
              </a:rPr>
              <a:t>Linhas de pesqui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fundo" descr=""/>
          <p:cNvPicPr/>
          <p:nvPr/>
        </p:nvPicPr>
        <p:blipFill>
          <a:blip r:embed="rId1"/>
          <a:stretch/>
        </p:blipFill>
        <p:spPr>
          <a:xfrm>
            <a:off x="0" y="0"/>
            <a:ext cx="251784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895480" y="1981080"/>
            <a:ext cx="533412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spcAft>
                <a:spcPts val="700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Para o </a:t>
            </a:r>
            <a:r>
              <a:rPr b="1" i="1" lang="pt-BR" sz="2800" spc="-1" strike="noStrike">
                <a:solidFill>
                  <a:srgbClr val="003399"/>
                </a:solidFill>
                <a:latin typeface="Times New Roman"/>
              </a:rPr>
              <a:t>Sistema Instituição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, contatar COAV/SUP</a:t>
            </a:r>
            <a:br>
              <a:rPr sz="2800"/>
            </a:b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t-BR" sz="2800" spc="-1" strike="noStrike">
                <a:solidFill>
                  <a:srgbClr val="cc3300"/>
                </a:solidFill>
                <a:latin typeface="Times New Roman"/>
              </a:rPr>
              <a:t>coav@cnpq.br</a:t>
            </a:r>
            <a:br>
              <a:rPr sz="2800"/>
            </a:br>
            <a:r>
              <a:rPr b="1" lang="pt-BR" sz="28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pt-BR" sz="2800" spc="-1" strike="noStrike">
                <a:solidFill>
                  <a:srgbClr val="cc3300"/>
                </a:solidFill>
                <a:latin typeface="Times New Roman"/>
              </a:rPr>
              <a:t>Fone 61-34893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71600" y="685800"/>
            <a:ext cx="4114800" cy="685800"/>
          </a:xfrm>
          <a:prstGeom prst="flowChartTerminator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05120" y="60948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99"/>
                </a:solidFill>
                <a:latin typeface="AGaramond Bold"/>
              </a:rPr>
              <a:t>Ajuda no CNPq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esquisa" descr=""/>
          <p:cNvPicPr/>
          <p:nvPr/>
        </p:nvPicPr>
        <p:blipFill>
          <a:blip r:embed="rId3"/>
          <a:stretch/>
        </p:blipFill>
        <p:spPr>
          <a:xfrm>
            <a:off x="7302600" y="0"/>
            <a:ext cx="184140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fundo" descr=""/>
          <p:cNvPicPr/>
          <p:nvPr/>
        </p:nvPicPr>
        <p:blipFill>
          <a:blip r:embed="rId1"/>
          <a:stretch/>
        </p:blipFill>
        <p:spPr>
          <a:xfrm>
            <a:off x="0" y="0"/>
            <a:ext cx="251784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895480" y="1981080"/>
            <a:ext cx="5334120" cy="273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spcAft>
                <a:spcPts val="700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Logística  na institui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spcAft>
                <a:spcPts val="700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i="1" lang="pt-BR" sz="2800" spc="-1" strike="noStrike">
                <a:solidFill>
                  <a:srgbClr val="003399"/>
                </a:solidFill>
                <a:latin typeface="Times New Roman"/>
              </a:rPr>
              <a:t>Sistema Institui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spcAft>
                <a:spcPts val="700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i="1" lang="pt-BR" sz="2800" spc="-1" strike="noStrike">
                <a:solidFill>
                  <a:srgbClr val="ff0000"/>
                </a:solidFill>
                <a:latin typeface="Times New Roman"/>
              </a:rPr>
              <a:t>Sistema Gru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spcAft>
                <a:spcPts val="700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Atendi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371600" y="685800"/>
            <a:ext cx="4114800" cy="685800"/>
          </a:xfrm>
          <a:prstGeom prst="flowChartTerminator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05120" y="60948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Garamond Bold"/>
              </a:rPr>
              <a:t>Apresenta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esquisa" descr=""/>
          <p:cNvPicPr/>
          <p:nvPr/>
        </p:nvPicPr>
        <p:blipFill>
          <a:blip r:embed="rId3"/>
          <a:stretch/>
        </p:blipFill>
        <p:spPr>
          <a:xfrm>
            <a:off x="7302600" y="0"/>
            <a:ext cx="184140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fundo" descr=""/>
          <p:cNvPicPr/>
          <p:nvPr/>
        </p:nvPicPr>
        <p:blipFill>
          <a:blip r:embed="rId1"/>
          <a:stretch/>
        </p:blipFill>
        <p:spPr>
          <a:xfrm>
            <a:off x="0" y="0"/>
            <a:ext cx="251784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esquisa" descr=""/>
          <p:cNvPicPr/>
          <p:nvPr/>
        </p:nvPicPr>
        <p:blipFill>
          <a:blip r:embed="rId2"/>
          <a:stretch/>
        </p:blipFill>
        <p:spPr>
          <a:xfrm>
            <a:off x="7302600" y="0"/>
            <a:ext cx="1841400" cy="17463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371600" y="685800"/>
            <a:ext cx="5486400" cy="68580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76520" y="66996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99"/>
                </a:solidFill>
                <a:latin typeface="AGaramond Bold"/>
              </a:rPr>
              <a:t>Sistema Grup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14600" y="16002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Recursos Princip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institui" descr=""/>
          <p:cNvPicPr/>
          <p:nvPr/>
        </p:nvPicPr>
        <p:blipFill>
          <a:blip r:embed="rId4"/>
          <a:stretch/>
        </p:blipFill>
        <p:spPr>
          <a:xfrm>
            <a:off x="533520" y="2057400"/>
            <a:ext cx="1676160" cy="10461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2590920" y="2209680"/>
            <a:ext cx="6553080" cy="291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26"/>
              </a:spcBef>
              <a:spcAft>
                <a:spcPts val="326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600" spc="-1" strike="noStrike">
                <a:solidFill>
                  <a:srgbClr val="003399"/>
                </a:solidFill>
                <a:latin typeface="Times New Roman"/>
              </a:rPr>
              <a:t>Atualização dos dados da v. 3.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26"/>
              </a:spcBef>
              <a:spcAft>
                <a:spcPts val="326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600" spc="-1" strike="noStrike">
                <a:solidFill>
                  <a:srgbClr val="003399"/>
                </a:solidFill>
                <a:latin typeface="Times New Roman"/>
              </a:rPr>
              <a:t>Importação de dados dos </a:t>
            </a:r>
            <a:r>
              <a:rPr b="1" i="1" lang="pt-BR" sz="2600" spc="-1" strike="noStrike">
                <a:solidFill>
                  <a:srgbClr val="003399"/>
                </a:solidFill>
                <a:latin typeface="Times New Roman"/>
              </a:rPr>
              <a:t>Currículos Lat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26"/>
              </a:spcBef>
              <a:spcAft>
                <a:spcPts val="326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600" spc="-1" strike="noStrike">
                <a:solidFill>
                  <a:srgbClr val="003399"/>
                </a:solidFill>
                <a:latin typeface="Times New Roman"/>
              </a:rPr>
              <a:t>Homepage do grupo de pesquis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26"/>
              </a:spcBef>
              <a:spcAft>
                <a:spcPts val="326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600" spc="-1" strike="noStrike">
                <a:solidFill>
                  <a:srgbClr val="003399"/>
                </a:solidFill>
                <a:latin typeface="Times New Roman"/>
              </a:rPr>
              <a:t>Transporte de dados entre computador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26"/>
              </a:spcBef>
              <a:spcAft>
                <a:spcPts val="326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600" spc="-1" strike="noStrike">
                <a:solidFill>
                  <a:srgbClr val="003399"/>
                </a:solidFill>
                <a:latin typeface="Times New Roman"/>
              </a:rPr>
              <a:t>Verificação de err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26"/>
              </a:spcBef>
              <a:spcAft>
                <a:spcPts val="326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600" spc="-1" strike="noStrike">
                <a:solidFill>
                  <a:srgbClr val="003399"/>
                </a:solidFill>
                <a:latin typeface="Times New Roman"/>
              </a:rPr>
              <a:t>Envio do grupo para a instituiçã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1240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Lí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fundo" descr=""/>
          <p:cNvPicPr/>
          <p:nvPr/>
        </p:nvPicPr>
        <p:blipFill>
          <a:blip r:embed="rId1"/>
          <a:stretch/>
        </p:blipFill>
        <p:spPr>
          <a:xfrm>
            <a:off x="0" y="0"/>
            <a:ext cx="25178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895480" y="1981080"/>
            <a:ext cx="5334120" cy="273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spcAft>
                <a:spcPts val="700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Logística  na institui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spcAft>
                <a:spcPts val="700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i="1" lang="pt-BR" sz="2800" spc="-1" strike="noStrike">
                <a:solidFill>
                  <a:srgbClr val="003399"/>
                </a:solidFill>
                <a:latin typeface="Times New Roman"/>
              </a:rPr>
              <a:t>Sistema Institui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spcAft>
                <a:spcPts val="700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i="1" lang="pt-BR" sz="2800" spc="-1" strike="noStrike">
                <a:solidFill>
                  <a:srgbClr val="003399"/>
                </a:solidFill>
                <a:latin typeface="Times New Roman"/>
              </a:rPr>
              <a:t>Sistema Gru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spcAft>
                <a:spcPts val="700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Atendi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685800"/>
            <a:ext cx="4114800" cy="685800"/>
          </a:xfrm>
          <a:prstGeom prst="flowChartTerminator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60948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Garamond Bold"/>
              </a:rPr>
              <a:t>Apresenta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esquisa" descr=""/>
          <p:cNvPicPr/>
          <p:nvPr/>
        </p:nvPicPr>
        <p:blipFill>
          <a:blip r:embed="rId3"/>
          <a:stretch/>
        </p:blipFill>
        <p:spPr>
          <a:xfrm>
            <a:off x="7302600" y="0"/>
            <a:ext cx="184140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fundo" descr=""/>
          <p:cNvPicPr/>
          <p:nvPr/>
        </p:nvPicPr>
        <p:blipFill>
          <a:blip r:embed="rId1"/>
          <a:stretch/>
        </p:blipFill>
        <p:spPr>
          <a:xfrm>
            <a:off x="0" y="0"/>
            <a:ext cx="2517840" cy="6858000"/>
          </a:xfrm>
          <a:prstGeom prst="rect">
            <a:avLst/>
          </a:prstGeom>
          <a:ln w="0">
            <a:noFill/>
          </a:ln>
        </p:spPr>
      </p:pic>
      <p:pic>
        <p:nvPicPr>
          <p:cNvPr id="173" name="pesquisa" descr=""/>
          <p:cNvPicPr/>
          <p:nvPr/>
        </p:nvPicPr>
        <p:blipFill>
          <a:blip r:embed="rId2"/>
          <a:stretch/>
        </p:blipFill>
        <p:spPr>
          <a:xfrm>
            <a:off x="7302600" y="0"/>
            <a:ext cx="1841400" cy="17463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371600" y="685800"/>
            <a:ext cx="5486400" cy="68580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66996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99"/>
                </a:solidFill>
                <a:latin typeface="AGaramond Bold"/>
              </a:rPr>
              <a:t>Sistema Grup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14600" y="16002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Atualização dos dados da v. 3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institui" descr=""/>
          <p:cNvPicPr/>
          <p:nvPr/>
        </p:nvPicPr>
        <p:blipFill>
          <a:blip r:embed="rId4"/>
          <a:stretch/>
        </p:blipFill>
        <p:spPr>
          <a:xfrm>
            <a:off x="533520" y="2057400"/>
            <a:ext cx="1676160" cy="10461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590920" y="2209680"/>
            <a:ext cx="6553080" cy="306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26"/>
              </a:spcBef>
              <a:spcAft>
                <a:spcPts val="326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600" spc="-1" strike="noStrike">
                <a:solidFill>
                  <a:srgbClr val="003399"/>
                </a:solidFill>
                <a:latin typeface="Times New Roman"/>
              </a:rPr>
              <a:t>Aproveitamento de dados independente de conexão à Internet (arquivo *.gic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26"/>
              </a:spcBef>
              <a:spcAft>
                <a:spcPts val="326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600" spc="-1" strike="noStrike">
                <a:solidFill>
                  <a:srgbClr val="003399"/>
                </a:solidFill>
                <a:latin typeface="Times New Roman"/>
              </a:rPr>
              <a:t>Após a identificação do líder o sistema apresenta seu(s) grupo(s) da versão 3.0. O líder poderá atualizar ou criar um novo grup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26"/>
              </a:spcBef>
              <a:spcAft>
                <a:spcPts val="326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600" spc="-1" strike="noStrike">
                <a:solidFill>
                  <a:srgbClr val="003399"/>
                </a:solidFill>
                <a:latin typeface="Times New Roman"/>
              </a:rPr>
              <a:t>Importante: é necessário arquivo *.gi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3124080"/>
            <a:ext cx="175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Recursos Princip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fundo" descr=""/>
          <p:cNvPicPr/>
          <p:nvPr/>
        </p:nvPicPr>
        <p:blipFill>
          <a:blip r:embed="rId1"/>
          <a:stretch/>
        </p:blipFill>
        <p:spPr>
          <a:xfrm>
            <a:off x="0" y="0"/>
            <a:ext cx="2517840" cy="6858000"/>
          </a:xfrm>
          <a:prstGeom prst="rect">
            <a:avLst/>
          </a:prstGeom>
          <a:ln w="0">
            <a:noFill/>
          </a:ln>
        </p:spPr>
      </p:pic>
      <p:pic>
        <p:nvPicPr>
          <p:cNvPr id="181" name="pesquisa" descr=""/>
          <p:cNvPicPr/>
          <p:nvPr/>
        </p:nvPicPr>
        <p:blipFill>
          <a:blip r:embed="rId2"/>
          <a:stretch/>
        </p:blipFill>
        <p:spPr>
          <a:xfrm>
            <a:off x="7302600" y="0"/>
            <a:ext cx="1841400" cy="17463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371600" y="685800"/>
            <a:ext cx="5486400" cy="68580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66996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99"/>
                </a:solidFill>
                <a:latin typeface="AGaramond Bold"/>
              </a:rPr>
              <a:t>Sistema Grup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14600" y="16002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Importação de dados do Currículo Lat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institui" descr=""/>
          <p:cNvPicPr/>
          <p:nvPr/>
        </p:nvPicPr>
        <p:blipFill>
          <a:blip r:embed="rId4"/>
          <a:stretch/>
        </p:blipFill>
        <p:spPr>
          <a:xfrm>
            <a:off x="533520" y="2057400"/>
            <a:ext cx="1676160" cy="10461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590920" y="2209680"/>
            <a:ext cx="6553080" cy="282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spcAft>
                <a:spcPts val="349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O computador do líder deve estar conectado à Interne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Importa dados de identificação, pós-graduação e totais de produçã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Dados curriculares importados não podem ser alterados pelo líder</a:t>
            </a:r>
            <a:r>
              <a:rPr b="1" lang="pt-BR" sz="2400" spc="-1" strike="noStrike">
                <a:solidFill>
                  <a:srgbClr val="003399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3124080"/>
            <a:ext cx="175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Recursos Princip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fundo" descr=""/>
          <p:cNvPicPr/>
          <p:nvPr/>
        </p:nvPicPr>
        <p:blipFill>
          <a:blip r:embed="rId1"/>
          <a:stretch/>
        </p:blipFill>
        <p:spPr>
          <a:xfrm>
            <a:off x="0" y="0"/>
            <a:ext cx="2517840" cy="6858000"/>
          </a:xfrm>
          <a:prstGeom prst="rect">
            <a:avLst/>
          </a:prstGeom>
          <a:ln w="0">
            <a:noFill/>
          </a:ln>
        </p:spPr>
      </p:pic>
      <p:pic>
        <p:nvPicPr>
          <p:cNvPr id="189" name="pesquisa" descr=""/>
          <p:cNvPicPr/>
          <p:nvPr/>
        </p:nvPicPr>
        <p:blipFill>
          <a:blip r:embed="rId2"/>
          <a:stretch/>
        </p:blipFill>
        <p:spPr>
          <a:xfrm>
            <a:off x="7302600" y="0"/>
            <a:ext cx="1841400" cy="17463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371600" y="685800"/>
            <a:ext cx="5486400" cy="68580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76520" y="66996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99"/>
                </a:solidFill>
                <a:latin typeface="AGaramond Bold"/>
              </a:rPr>
              <a:t>Sistema Grup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6002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Homepage do Grupo de Pesqui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institui" descr=""/>
          <p:cNvPicPr/>
          <p:nvPr/>
        </p:nvPicPr>
        <p:blipFill>
          <a:blip r:embed="rId4"/>
          <a:stretch/>
        </p:blipFill>
        <p:spPr>
          <a:xfrm>
            <a:off x="533520" y="2057400"/>
            <a:ext cx="1676160" cy="10461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590920" y="2209680"/>
            <a:ext cx="6553080" cy="231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spcAft>
                <a:spcPts val="349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O relatório do grupo está em formato HTML e pode ser disponibilizado na Interne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O relatório ressalta os campos não informados para conferê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124080"/>
            <a:ext cx="175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Recursos Princip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514600" y="464832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Transporte de dados entre comput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590920" y="5257800"/>
            <a:ext cx="6553080" cy="103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spcAft>
                <a:spcPts val="349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Salvar co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Ler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fundo" descr=""/>
          <p:cNvPicPr/>
          <p:nvPr/>
        </p:nvPicPr>
        <p:blipFill>
          <a:blip r:embed="rId1"/>
          <a:stretch/>
        </p:blipFill>
        <p:spPr>
          <a:xfrm>
            <a:off x="0" y="0"/>
            <a:ext cx="2517840" cy="6858000"/>
          </a:xfrm>
          <a:prstGeom prst="rect">
            <a:avLst/>
          </a:prstGeom>
          <a:ln w="0">
            <a:noFill/>
          </a:ln>
        </p:spPr>
      </p:pic>
      <p:pic>
        <p:nvPicPr>
          <p:cNvPr id="199" name="pesquisa" descr=""/>
          <p:cNvPicPr/>
          <p:nvPr/>
        </p:nvPicPr>
        <p:blipFill>
          <a:blip r:embed="rId2"/>
          <a:stretch/>
        </p:blipFill>
        <p:spPr>
          <a:xfrm>
            <a:off x="7302600" y="0"/>
            <a:ext cx="1841400" cy="17463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371600" y="685800"/>
            <a:ext cx="5486400" cy="68580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76520" y="66996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99"/>
                </a:solidFill>
                <a:latin typeface="AGaramond Bold"/>
              </a:rPr>
              <a:t>Sistema Grup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14600" y="144792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Verificação de er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institui" descr=""/>
          <p:cNvPicPr/>
          <p:nvPr/>
        </p:nvPicPr>
        <p:blipFill>
          <a:blip r:embed="rId4"/>
          <a:stretch/>
        </p:blipFill>
        <p:spPr>
          <a:xfrm>
            <a:off x="533520" y="2057400"/>
            <a:ext cx="1676160" cy="10461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590920" y="2057400"/>
            <a:ext cx="6553080" cy="18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spcAft>
                <a:spcPts val="349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integridade, consistencia e obrigatoriedade de informaçõ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grupos com erros não podem ser enviados ao dirigente de pesqui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" y="3124080"/>
            <a:ext cx="175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Recursos Princip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514600" y="396252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Envio de Grupos para a institui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590920" y="4419720"/>
            <a:ext cx="6248160" cy="187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26"/>
              </a:spcBef>
              <a:spcAft>
                <a:spcPts val="326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600" spc="-1" strike="noStrike">
                <a:solidFill>
                  <a:srgbClr val="003399"/>
                </a:solidFill>
                <a:latin typeface="Times New Roman"/>
              </a:rPr>
              <a:t>Necessidade de senha individu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26"/>
              </a:spcBef>
              <a:spcAft>
                <a:spcPts val="326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600" spc="-1" strike="noStrike">
                <a:solidFill>
                  <a:srgbClr val="003399"/>
                </a:solidFill>
                <a:latin typeface="Times New Roman"/>
              </a:rPr>
              <a:t>Conexão Interne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26"/>
              </a:spcBef>
              <a:spcAft>
                <a:spcPts val="326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600" spc="-1" strike="noStrike">
                <a:solidFill>
                  <a:srgbClr val="003399"/>
                </a:solidFill>
                <a:latin typeface="Times New Roman"/>
              </a:rPr>
              <a:t>Disponibilidade do serviço de grupos na instituiçã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fundo" descr=""/>
          <p:cNvPicPr/>
          <p:nvPr/>
        </p:nvPicPr>
        <p:blipFill>
          <a:blip r:embed="rId1"/>
          <a:stretch/>
        </p:blipFill>
        <p:spPr>
          <a:xfrm>
            <a:off x="0" y="0"/>
            <a:ext cx="251784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895480" y="1981080"/>
            <a:ext cx="533412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spcAft>
                <a:spcPts val="700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Para o </a:t>
            </a:r>
            <a:r>
              <a:rPr b="1" i="1" lang="pt-BR" sz="2800" spc="-1" strike="noStrike">
                <a:solidFill>
                  <a:srgbClr val="003399"/>
                </a:solidFill>
                <a:latin typeface="Times New Roman"/>
              </a:rPr>
              <a:t>Sistema Grupo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, contatar Call Center do CNPq</a:t>
            </a:r>
            <a:br>
              <a:rPr sz="2800"/>
            </a:b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t-BR" sz="2800" spc="-1" strike="noStrike">
                <a:solidFill>
                  <a:srgbClr val="cc3300"/>
                </a:solidFill>
                <a:latin typeface="Times New Roman"/>
              </a:rPr>
              <a:t>webadmin@cnpq.br</a:t>
            </a:r>
            <a:br>
              <a:rPr sz="2800"/>
            </a:br>
            <a:r>
              <a:rPr b="1" lang="pt-BR" sz="28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pt-BR" sz="2800" spc="-1" strike="noStrike">
                <a:solidFill>
                  <a:srgbClr val="cc3300"/>
                </a:solidFill>
                <a:latin typeface="Times New Roman"/>
              </a:rPr>
              <a:t>Fone 0800-6196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71600" y="685800"/>
            <a:ext cx="4114800" cy="685800"/>
          </a:xfrm>
          <a:prstGeom prst="flowChartTerminator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05120" y="60948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99"/>
                </a:solidFill>
                <a:latin typeface="AGaramond Bold"/>
              </a:rPr>
              <a:t>Ajuda no CNPq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esquisa" descr=""/>
          <p:cNvPicPr/>
          <p:nvPr/>
        </p:nvPicPr>
        <p:blipFill>
          <a:blip r:embed="rId3"/>
          <a:stretch/>
        </p:blipFill>
        <p:spPr>
          <a:xfrm>
            <a:off x="7302600" y="0"/>
            <a:ext cx="184140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fundo" descr=""/>
          <p:cNvPicPr/>
          <p:nvPr/>
        </p:nvPicPr>
        <p:blipFill>
          <a:blip r:embed="rId1"/>
          <a:stretch/>
        </p:blipFill>
        <p:spPr>
          <a:xfrm>
            <a:off x="0" y="0"/>
            <a:ext cx="2516040" cy="6858000"/>
          </a:xfrm>
          <a:prstGeom prst="rect">
            <a:avLst/>
          </a:prstGeom>
          <a:ln w="0">
            <a:noFill/>
          </a:ln>
        </p:spPr>
      </p:pic>
      <p:pic>
        <p:nvPicPr>
          <p:cNvPr id="214" name="logo1" descr=""/>
          <p:cNvPicPr/>
          <p:nvPr/>
        </p:nvPicPr>
        <p:blipFill>
          <a:blip r:embed="rId2"/>
          <a:stretch/>
        </p:blipFill>
        <p:spPr>
          <a:xfrm>
            <a:off x="304920" y="6108840"/>
            <a:ext cx="1333440" cy="520560"/>
          </a:xfrm>
          <a:prstGeom prst="rect">
            <a:avLst/>
          </a:prstGeom>
          <a:ln w="0">
            <a:noFill/>
          </a:ln>
        </p:spPr>
      </p:pic>
      <p:pic>
        <p:nvPicPr>
          <p:cNvPr id="215" name="logoStela" descr=""/>
          <p:cNvPicPr/>
          <p:nvPr/>
        </p:nvPicPr>
        <p:blipFill>
          <a:blip r:embed="rId3"/>
          <a:stretch/>
        </p:blipFill>
        <p:spPr>
          <a:xfrm>
            <a:off x="7848720" y="6108840"/>
            <a:ext cx="1041120" cy="5205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457200" y="30492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Diretório dos Grupos de Pesquisa no Brasil</a:t>
            </a: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  - 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versão 4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esquisa" descr=""/>
          <p:cNvPicPr/>
          <p:nvPr/>
        </p:nvPicPr>
        <p:blipFill>
          <a:blip r:embed="rId4"/>
          <a:stretch/>
        </p:blipFill>
        <p:spPr>
          <a:xfrm>
            <a:off x="1905120" y="1874880"/>
            <a:ext cx="525780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diagrama" descr=""/>
          <p:cNvPicPr/>
          <p:nvPr/>
        </p:nvPicPr>
        <p:blipFill>
          <a:blip r:embed="rId1"/>
          <a:stretch/>
        </p:blipFill>
        <p:spPr>
          <a:xfrm>
            <a:off x="0" y="101520"/>
            <a:ext cx="9144000" cy="66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fundo" descr=""/>
          <p:cNvPicPr/>
          <p:nvPr/>
        </p:nvPicPr>
        <p:blipFill>
          <a:blip r:embed="rId1"/>
          <a:stretch/>
        </p:blipFill>
        <p:spPr>
          <a:xfrm>
            <a:off x="0" y="0"/>
            <a:ext cx="251784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895480" y="1981080"/>
            <a:ext cx="5334120" cy="273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spcAft>
                <a:spcPts val="700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Logística  na institui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spcAft>
                <a:spcPts val="700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i="1" lang="pt-BR" sz="2800" spc="-1" strike="noStrike">
                <a:solidFill>
                  <a:srgbClr val="cc3300"/>
                </a:solidFill>
                <a:latin typeface="Times New Roman"/>
              </a:rPr>
              <a:t>Sistema Institui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spcAft>
                <a:spcPts val="700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i="1" lang="pt-BR" sz="2800" spc="-1" strike="noStrike">
                <a:solidFill>
                  <a:srgbClr val="003399"/>
                </a:solidFill>
                <a:latin typeface="Times New Roman"/>
              </a:rPr>
              <a:t>Sistema Gru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spcAft>
                <a:spcPts val="700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Atendi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71600" y="685800"/>
            <a:ext cx="4114800" cy="685800"/>
          </a:xfrm>
          <a:prstGeom prst="flowChartTerminator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05120" y="60948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Garamond Bold"/>
              </a:rPr>
              <a:t>Apresenta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esquisa" descr=""/>
          <p:cNvPicPr/>
          <p:nvPr/>
        </p:nvPicPr>
        <p:blipFill>
          <a:blip r:embed="rId3"/>
          <a:stretch/>
        </p:blipFill>
        <p:spPr>
          <a:xfrm>
            <a:off x="7302600" y="0"/>
            <a:ext cx="184140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fundo" descr=""/>
          <p:cNvPicPr/>
          <p:nvPr/>
        </p:nvPicPr>
        <p:blipFill>
          <a:blip r:embed="rId1"/>
          <a:stretch/>
        </p:blipFill>
        <p:spPr>
          <a:xfrm>
            <a:off x="0" y="0"/>
            <a:ext cx="251784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esquisa" descr=""/>
          <p:cNvPicPr/>
          <p:nvPr/>
        </p:nvPicPr>
        <p:blipFill>
          <a:blip r:embed="rId2"/>
          <a:stretch/>
        </p:blipFill>
        <p:spPr>
          <a:xfrm>
            <a:off x="7302600" y="0"/>
            <a:ext cx="1841400" cy="1746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371600" y="685800"/>
            <a:ext cx="5486400" cy="68580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76520" y="66996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99"/>
                </a:solidFill>
                <a:latin typeface="AGaramond Bold"/>
              </a:rPr>
              <a:t>Sistema Institui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14600" y="16002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Utilização Bás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institui" descr=""/>
          <p:cNvPicPr/>
          <p:nvPr/>
        </p:nvPicPr>
        <p:blipFill>
          <a:blip r:embed="rId4"/>
          <a:stretch/>
        </p:blipFill>
        <p:spPr>
          <a:xfrm>
            <a:off x="533520" y="2057400"/>
            <a:ext cx="1676160" cy="1046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743200" y="2209680"/>
            <a:ext cx="5334120" cy="361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spcAft>
                <a:spcPts val="349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Configuraç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Gerar </a:t>
            </a:r>
            <a:r>
              <a:rPr b="1" i="1" lang="pt-BR" sz="2800" spc="-1" strike="noStrike">
                <a:solidFill>
                  <a:srgbClr val="003399"/>
                </a:solidFill>
                <a:latin typeface="Times New Roman"/>
              </a:rPr>
              <a:t>Sistema Gru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Fornecimento de senh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Envio de emails aos líde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Recepção dos gru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Carga dos grupos receb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Envio dos grupos ao CNP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31240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Dirig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fundo" descr=""/>
          <p:cNvPicPr/>
          <p:nvPr/>
        </p:nvPicPr>
        <p:blipFill>
          <a:blip r:embed="rId1"/>
          <a:stretch/>
        </p:blipFill>
        <p:spPr>
          <a:xfrm>
            <a:off x="0" y="0"/>
            <a:ext cx="251784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pesquisa" descr=""/>
          <p:cNvPicPr/>
          <p:nvPr/>
        </p:nvPicPr>
        <p:blipFill>
          <a:blip r:embed="rId2"/>
          <a:stretch/>
        </p:blipFill>
        <p:spPr>
          <a:xfrm>
            <a:off x="7302600" y="0"/>
            <a:ext cx="1841400" cy="1746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371600" y="685800"/>
            <a:ext cx="5486400" cy="68580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14600" y="16002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Configuraç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institui" descr=""/>
          <p:cNvPicPr/>
          <p:nvPr/>
        </p:nvPicPr>
        <p:blipFill>
          <a:blip r:embed="rId4"/>
          <a:stretch/>
        </p:blipFill>
        <p:spPr>
          <a:xfrm>
            <a:off x="533520" y="2057400"/>
            <a:ext cx="1676160" cy="10461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743200" y="2209680"/>
            <a:ext cx="5334120" cy="273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spcAft>
                <a:spcPts val="700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Logoti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spcAft>
                <a:spcPts val="700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Senhas individuais para líde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spcAft>
                <a:spcPts val="700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Recepção dos gru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spcAft>
                <a:spcPts val="700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Servidor de E-mai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76520" y="66996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99"/>
                </a:solidFill>
                <a:latin typeface="AGaramond Bold"/>
              </a:rPr>
              <a:t>Sistema Institui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312408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Utilização Bás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fundo" descr=""/>
          <p:cNvPicPr/>
          <p:nvPr/>
        </p:nvPicPr>
        <p:blipFill>
          <a:blip r:embed="rId1"/>
          <a:stretch/>
        </p:blipFill>
        <p:spPr>
          <a:xfrm>
            <a:off x="0" y="0"/>
            <a:ext cx="251784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esquisa" descr=""/>
          <p:cNvPicPr/>
          <p:nvPr/>
        </p:nvPicPr>
        <p:blipFill>
          <a:blip r:embed="rId2"/>
          <a:stretch/>
        </p:blipFill>
        <p:spPr>
          <a:xfrm>
            <a:off x="7302600" y="0"/>
            <a:ext cx="1841400" cy="1746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371600" y="685800"/>
            <a:ext cx="5486400" cy="68580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14600" y="16002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Gerar </a:t>
            </a:r>
            <a:r>
              <a:rPr b="1" i="1" lang="pt-BR" sz="2800" spc="-1" strike="noStrike">
                <a:solidFill>
                  <a:srgbClr val="000000"/>
                </a:solidFill>
                <a:latin typeface="Times New Roman"/>
              </a:rPr>
              <a:t>Sistema Gru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stitui" descr=""/>
          <p:cNvPicPr/>
          <p:nvPr/>
        </p:nvPicPr>
        <p:blipFill>
          <a:blip r:embed="rId4"/>
          <a:stretch/>
        </p:blipFill>
        <p:spPr>
          <a:xfrm>
            <a:off x="533520" y="2057400"/>
            <a:ext cx="1676160" cy="1046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514600" y="2590920"/>
            <a:ext cx="6400800" cy="199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spcAft>
                <a:spcPts val="700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Arquivos de instal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spcAft>
                <a:spcPts val="700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Home page do Diretório na institui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spcAft>
                <a:spcPts val="700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Geração para disqu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76520" y="66996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99"/>
                </a:solidFill>
                <a:latin typeface="AGaramond Bold"/>
              </a:rPr>
              <a:t>Sistema Institui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12408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Utilização Bás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fundo" descr=""/>
          <p:cNvPicPr/>
          <p:nvPr/>
        </p:nvPicPr>
        <p:blipFill>
          <a:blip r:embed="rId1"/>
          <a:stretch/>
        </p:blipFill>
        <p:spPr>
          <a:xfrm>
            <a:off x="0" y="0"/>
            <a:ext cx="251784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esquisa" descr=""/>
          <p:cNvPicPr/>
          <p:nvPr/>
        </p:nvPicPr>
        <p:blipFill>
          <a:blip r:embed="rId2"/>
          <a:stretch/>
        </p:blipFill>
        <p:spPr>
          <a:xfrm>
            <a:off x="7302600" y="0"/>
            <a:ext cx="1841400" cy="1746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371600" y="685800"/>
            <a:ext cx="5486400" cy="68580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160020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Fornecimento de senhas &amp;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Envio de E-mai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institui" descr=""/>
          <p:cNvPicPr/>
          <p:nvPr/>
        </p:nvPicPr>
        <p:blipFill>
          <a:blip r:embed="rId4"/>
          <a:stretch/>
        </p:blipFill>
        <p:spPr>
          <a:xfrm>
            <a:off x="533520" y="2057400"/>
            <a:ext cx="1676160" cy="10461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514600" y="2819520"/>
            <a:ext cx="6400800" cy="302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spcAft>
                <a:spcPts val="524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Facilidade do E-m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spcAft>
                <a:spcPts val="524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Manutenção das contas de E-m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spcAft>
                <a:spcPts val="524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Líderes de grupos da v. 3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spcAft>
                <a:spcPts val="524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Líderes de novos gru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spcAft>
                <a:spcPts val="524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Envio de E-mails individu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66996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99"/>
                </a:solidFill>
                <a:latin typeface="AGaramond Bold"/>
              </a:rPr>
              <a:t>Sistema Institui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312408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Utilização Bás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fundo" descr=""/>
          <p:cNvPicPr/>
          <p:nvPr/>
        </p:nvPicPr>
        <p:blipFill>
          <a:blip r:embed="rId1"/>
          <a:stretch/>
        </p:blipFill>
        <p:spPr>
          <a:xfrm>
            <a:off x="0" y="0"/>
            <a:ext cx="251784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pesquisa" descr=""/>
          <p:cNvPicPr/>
          <p:nvPr/>
        </p:nvPicPr>
        <p:blipFill>
          <a:blip r:embed="rId2"/>
          <a:stretch/>
        </p:blipFill>
        <p:spPr>
          <a:xfrm>
            <a:off x="7302600" y="0"/>
            <a:ext cx="1841400" cy="1746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371600" y="685800"/>
            <a:ext cx="5486400" cy="68580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14600" y="16002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Recepção dos gru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institui" descr=""/>
          <p:cNvPicPr/>
          <p:nvPr/>
        </p:nvPicPr>
        <p:blipFill>
          <a:blip r:embed="rId4"/>
          <a:stretch/>
        </p:blipFill>
        <p:spPr>
          <a:xfrm>
            <a:off x="533520" y="2057400"/>
            <a:ext cx="1676160" cy="10461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514600" y="2286000"/>
            <a:ext cx="6400800" cy="285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spcAft>
                <a:spcPts val="524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A recepção é desvinculada do </a:t>
            </a:r>
            <a:r>
              <a:rPr b="1" i="1" lang="pt-BR" sz="2800" spc="-1" strike="noStrike">
                <a:solidFill>
                  <a:srgbClr val="003399"/>
                </a:solidFill>
                <a:latin typeface="Times New Roman"/>
              </a:rPr>
              <a:t>Sistema Instituição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(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aplicativo independente CNPqCO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spcAft>
                <a:spcPts val="524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Deve-se manter o sistema de recepção de grupos </a:t>
            </a:r>
            <a:r>
              <a:rPr b="1" lang="pt-BR" sz="2800" spc="-1" strike="noStrike" u="sng">
                <a:solidFill>
                  <a:srgbClr val="003399"/>
                </a:solidFill>
                <a:uFillTx/>
                <a:latin typeface="Times New Roman"/>
              </a:rPr>
              <a:t>sempre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ativo, para que os líderes possam enviar seus grup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76520" y="66996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99"/>
                </a:solidFill>
                <a:latin typeface="AGaramond Bold"/>
              </a:rPr>
              <a:t>Sistema Institui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312408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Utilização Bás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2T03:07:31Z</dcterms:created>
  <dc:creator>rcpauli</dc:creator>
  <dc:description/>
  <dc:language>en-US</dc:language>
  <cp:lastModifiedBy>Stela</cp:lastModifiedBy>
  <dcterms:modified xsi:type="dcterms:W3CDTF">2000-03-17T05:32:47Z</dcterms:modified>
  <cp:revision>46</cp:revision>
  <dc:subject/>
  <dc:title>Slide sem título </dc:title>
</cp:coreProperties>
</file>